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556-5EBA-4189-8262-F7969071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F05-D1C2-4BCB-AD96-EBA0B2DC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3BA-6828-4C65-8EAF-07B6BDC7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DBD-9003-45BC-BD98-98D43437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B12-EE58-46CE-9EC5-8B8BFF69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F41-C7B1-4B0E-AC2C-E9F503FB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9C3-65D8-4E6B-B052-7755CBF5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A08-BF2C-4B54-B9C7-EADF8664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FAD-DCF3-423C-8E2B-FA989588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F4F-29C8-4E49-8FF9-F1D0096E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632-99D0-41B8-934A-05D65364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193-10D5-4076-A120-AC87089A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0412-DFF1-4BC1-9581-43FE7B1E2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925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EARTH’S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SIXTH G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5053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STREAM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502320" cy="4876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8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19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502320" cy="4876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24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426360" cy="4819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36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807240" cy="5105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 hours (initial set-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578640" cy="4934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1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730920" cy="5048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2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730920" cy="504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3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807240" cy="510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4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807240" cy="510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5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426360" cy="4819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6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d7"/>
            </a:gs>
            <a:gs pos="50000">
              <a:srgbClr val="ffab97"/>
            </a:gs>
            <a:gs pos="100000">
              <a:srgbClr val="8585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502320" cy="4876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57150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7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20:27:24Z</dcterms:created>
  <dc:creator>Edward J. McGrath</dc:creator>
  <dc:description/>
  <dc:language>en-US</dc:language>
  <cp:lastModifiedBy>Administrator</cp:lastModifiedBy>
  <dcterms:modified xsi:type="dcterms:W3CDTF">2005-05-13T11:51:09Z</dcterms:modified>
  <cp:revision>4</cp:revision>
  <dc:subject/>
  <dc:title>Slide 1</dc:title>
</cp:coreProperties>
</file>